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EED-1804-44C2-9FAD-4A69408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1C4-E33D-4EFE-B476-67D75BF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B64-675F-4BA0-92CF-21064811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55A-65C1-4D32-BFC8-FCD39A62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A0E4-5718-4999-A4B8-2791D461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F49-82BD-4433-B648-78BC4CFE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921A-8BA3-4176-8665-C48DC8E5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9FFD-9C93-4CDE-B7D9-43AF9F64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7C2-22BE-4739-A2D1-52246D1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3240-42A8-4673-B067-0B5A125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A150-7B85-4390-A31D-2988DBD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2EE-ADF0-4A76-A154-FC25645F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902-A4DC-4E96-B5E7-F75D9A2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B970-1B93-4D9F-9288-29DFBFDD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201-6F85-4551-9A73-A889EBFD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5745-82BC-46B5-98DE-249B0545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DD36-FDAA-46E1-BDA8-B0B66999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4785-1BAD-41F7-9044-171B3744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35CF-1F70-48FA-B984-EFA41817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2C8B-3F5F-443D-9053-F8429EA1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6F57-37CC-4AD7-97E4-34E63BB1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6604-B769-44F9-AAEB-711F20B9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5B6-9759-43E5-9F1F-CA8D300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4330-3E77-477B-8833-1FFB0EF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BD92-6D37-4293-8F2C-EC39A080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EE90-0441-454D-8691-F18B761C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9A11-2FC8-4A98-B8F4-01DD126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87E7-0444-4F7B-B3DC-ACD6D66F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BF07-17AD-4F8C-A0DA-DBE8B113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37A6-3C36-454B-AF3D-2357C142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0F5-0234-457C-8514-6755C8E5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2B4-5296-42F5-A9F0-34DA87F5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3E7-614C-4EAC-83F8-397190AA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381-102E-4426-95BE-5B3AF8D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6DB-5C58-4A2A-8865-E432EADF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DF0-23E3-4627-B9A8-A188999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9DA-9B01-4E7D-80AB-B4C67C534B2F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070-47BA-45DD-B974-B9D1DDD37607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C7FE-F348-43F5-81AD-8A36500740F6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716000" y="2927520"/>
            <a:ext cx="39704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ИСХРАНА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ПОСЕБНИХ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КАТЕГОРИЈА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СТАНОВНИШТВ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17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и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D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в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и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довоље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иц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полагањ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вољ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770 </a:t>
            </a:r>
            <a:r>
              <a:rPr b="0" lang="en-US" sz="15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g RE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тинол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квивалена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валитет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днак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но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аб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храње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иц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шеплод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р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вита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пител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уб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сок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држаје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тр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уте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ргари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мнозеле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у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u trudnoć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ва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цијум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осфор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опходн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келе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ету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виснос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лагањ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нев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ветл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D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псорпц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коришћава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в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њ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5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g (200 IU)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огат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ном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D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тр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к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ргарин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итамин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B-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дат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валитет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љ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ам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опход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ензим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ој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чк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акција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ључе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нтез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ункционис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л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речи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л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шеплод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локрв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галобласт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нем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шћњ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ар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шестру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ндад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з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600 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мес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400 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љ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з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л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мо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вен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ш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рођ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шта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спина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бифи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аненцефал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з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ндард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75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85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чи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полаг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љ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ж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зив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скулар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е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2637000"/>
          <a:ext cx="7693200" cy="3849480"/>
        </p:xfrm>
        <a:graphic>
          <a:graphicData uri="http://schemas.openxmlformats.org/drawingml/2006/table">
            <a:tbl>
              <a:tblPr/>
              <a:tblGrid>
                <a:gridCol w="1874880"/>
                <a:gridCol w="1908360"/>
                <a:gridCol w="3909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utritien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žene 19-50 god. (TM-63k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rudni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cal/da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ema promena u prvom trimestru, drugi i treći trimestar se dodaje po 300 kc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teini (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alcijum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vožđe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 A (µg R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iamin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iboflavin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iacin (mg N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 C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 D (µ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lna liselina (µ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ОБЛЕМИ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ВЕЗАНИ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СХРАНУ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т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н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алн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блем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астр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стиналн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к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чеш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астроинтестиналн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к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чнин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аћањ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5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иц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пстипациј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твор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еморои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димањ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луц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.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ин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м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збиљ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ледиц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лаз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м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б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жим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нашањ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ЕЛЕСНОЈ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МАСИ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лаз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сечн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11-16 kg 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лик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ндивидуал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ријације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шав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руктур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јк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ус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ционал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миј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к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личи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клад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о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о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иц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ћ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инцип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жи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11.5-16kg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по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жи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13-18kg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на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жи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7-11.5kg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(0.5kg nedeljno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нализ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казуј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иж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чу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(62%)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(31%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(7%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руктурам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за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етус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2/3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ећи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купљат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њи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кстремитетим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поручуј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збиљ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стрикциј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ачаја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дицинск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бле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јав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ођаја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прострањен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љењ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одиљ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жав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т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н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ођ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ст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љ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циј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ћ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чин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л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в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ит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н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ђ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ч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р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пре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ти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!)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р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тражив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њ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епен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жин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ођај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a ne utiče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валитет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предовањ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ољан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дрављ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de-DE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403280" y="2852640"/>
          <a:ext cx="6973920" cy="3141720"/>
        </p:xfrm>
        <a:graphic>
          <a:graphicData uri="http://schemas.openxmlformats.org/drawingml/2006/table">
            <a:tbl>
              <a:tblPr/>
              <a:tblGrid>
                <a:gridCol w="4683240"/>
                <a:gridCol w="2290680"/>
              </a:tblGrid>
              <a:tr h="49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IBLIŽNE MASE STRUKTURA MAJKE I FETUSA KOJE SE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AZVIJAJU TOKOM NORMALNE TRUDNOĆ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ruktur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sa (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etu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lacent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nionska tečnost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terica (povećanj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ojke (povećanj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zapremina krvi (povećanj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nergetske rezerve (povećanj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0 - 36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850 - 126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НАПОМЕНА</a:t>
            </a:r>
            <a:r>
              <a:rPr b="1" lang="de-DE" sz="24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Дијететск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режим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смањивањ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никада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спроводити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конзумирати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алкохол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цигарет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наркотик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НУТРИТИВН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је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ојчет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родн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чини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ухват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2-15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ођа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инуира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и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утритиенти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50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ори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обичајених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2500-2700 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и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ај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850 m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сеч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дук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ет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700 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веден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400-450 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ог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чи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ш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е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и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65 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вих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ест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62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их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ест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15-20 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обичајених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46-50 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ак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1000 mg. 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ли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ђењ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ош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дукциј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ерал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понент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дава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луор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0.25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в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луори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чин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120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3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ђењ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и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а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75 mg/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н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н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B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имат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8-1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аш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1.5-2 l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једничк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ков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ТРУДНИ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кстрем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з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9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плет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ж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логр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ецифично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о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рак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олош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тит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ету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цен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време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уникац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титети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иш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нергистич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не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стве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ли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тите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ш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ктор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врђу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утритив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42920" y="2708280"/>
          <a:ext cx="7693200" cy="3724200"/>
        </p:xfrm>
        <a:graphic>
          <a:graphicData uri="http://schemas.openxmlformats.org/drawingml/2006/table">
            <a:tbl>
              <a:tblPr/>
              <a:tblGrid>
                <a:gridCol w="1874880"/>
                <a:gridCol w="1908360"/>
                <a:gridCol w="2066760"/>
                <a:gridCol w="18432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utritien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žene 19-50 god. (TM-63k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ktacija 0-6. mes. (600ml/da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ktacija 7.-12. mes. (750ml/da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cal/da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teini (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alcijum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vožđe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 A (µg R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iamin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iboflavin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iacin (mg N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 C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 D (µ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lna liselina (µ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SHRANA U PERIODU RASTA I RAZVO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Ras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predstavlja proces tokom koga se povećavaju dimenzije organizma. Biološki rast organizma se odvija kroz umnožavanje ćelij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Razvoj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je združeni proces tokom koga rastuća tkiva i organi povećavaju složenost svojih funkcij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oces rasta i proces razvoja su delovi jedinstvenog i nedeljivog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rocesa rasta i razvoj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okom koga se novorođenče transformiše u jedinstvenu nezavisnu odraslu osobu sa svim odgovarajućim funkcijam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lokupa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životni ciklus čovek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se, sa aspekta rasta, može podeliti na sledeće period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iod novorođenče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iod detinjst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iod adolescenci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iod odraslog čovek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актериш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в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рвих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шест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есец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живот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телесн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ас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новорођенчет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двоструч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ред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е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ш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р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и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трострук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већ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телесн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ас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ређењ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телесно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асо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н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рође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Детињств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аријабил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долесцен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тињст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пор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а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сконтинур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тињст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тов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у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фаз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Symbol"/>
                <a:ea typeface="Symbol"/>
              </a:rPr>
              <a:t>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лато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Symbol"/>
                <a:ea typeface="Symbol"/>
              </a:rPr>
              <a:t>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ра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тет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тињств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авил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ударај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роменама</a:t>
            </a:r>
            <a:r>
              <a:rPr b="0" lang="fr-FR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</a:t>
            </a:r>
            <a:r>
              <a:rPr b="0" lang="fr-FR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апетиту</a:t>
            </a:r>
            <a:r>
              <a:rPr b="0" lang="fr-FR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ете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т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тинств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обичајен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рмалн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изменичн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р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оше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ети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тињств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актеристик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сих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н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тињств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1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3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школск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рас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3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6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колск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рас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6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долесценци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долесценци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чињ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убертет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актериш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и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брзањем</a:t>
            </a:r>
            <a:r>
              <a:rPr b="0" lang="fr-FR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рас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в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брзањ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актеристик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јств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јућ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долесценци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шавај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значајни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долесценци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уг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ав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јућ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ксуалн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актеристик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драслог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човека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дултни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налн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з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н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клус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стиж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ој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солутн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т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з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ласк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иј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н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лаз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епеног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њ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греси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матрат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атит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спекат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вис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рамета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шем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нтал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моционал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ци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ултуролошк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8459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НУТРИТИВНЕ</a:t>
            </a:r>
            <a:r>
              <a:rPr b="1" lang="fr-FR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fr-FR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fr-FR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ПОЈЕДИНИМ</a:t>
            </a:r>
            <a:r>
              <a:rPr b="1" lang="fr-FR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ПЕРИОДИМА</a:t>
            </a:r>
            <a:r>
              <a:rPr b="1" lang="fr-FR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1" lang="fr-FR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fr-FR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3366"/>
                </a:solidFill>
                <a:latin typeface="Arial"/>
              </a:rPr>
              <a:t>РАЗВОЈА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i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лик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ријациј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им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ам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висност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аз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лов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енерално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ћ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вом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лативно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лик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етогодишњег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тет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ош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едећ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чин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50 %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азалн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5%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рмоген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(TEF)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д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ан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рењ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псорпцију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кретањ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25%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оши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личит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fr-FR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12%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кива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8%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е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уб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олиц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имар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 u="sng">
                <a:solidFill>
                  <a:srgbClr val="003366"/>
                </a:solidFill>
                <a:uFillTx/>
                <a:latin typeface="Arial"/>
              </a:rPr>
              <a:t>угљени</a:t>
            </a:r>
            <a:r>
              <a:rPr b="0" lang="en-US" sz="15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500" spc="-1" strike="noStrike" u="sng">
                <a:solidFill>
                  <a:srgbClr val="003366"/>
                </a:solidFill>
                <a:uFillTx/>
                <a:latin typeface="Arial"/>
              </a:rPr>
              <a:t>хидра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ж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66"/>
                </a:solidFill>
                <a:latin typeface="Symbol"/>
                <a:ea typeface="Symbol"/>
              </a:rPr>
              <a:t>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едње</a:t>
            </a:r>
            <a:r>
              <a:rPr b="0" lang="en-US" sz="1500" spc="-1" strike="noStrike">
                <a:solidFill>
                  <a:srgbClr val="003366"/>
                </a:solidFill>
                <a:latin typeface="Symbol"/>
                <a:ea typeface="Symbol"/>
              </a:rPr>
              <a:t>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ис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дат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инолинск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опход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теи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минокисел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нов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радив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теријал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еме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њују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теини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в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е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1.52 g/kg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0.8 g/kg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00000" y="2708280"/>
          <a:ext cx="7693200" cy="3821040"/>
        </p:xfrm>
        <a:graphic>
          <a:graphicData uri="http://schemas.openxmlformats.org/drawingml/2006/table">
            <a:tbl>
              <a:tblPr/>
              <a:tblGrid>
                <a:gridCol w="1332000"/>
                <a:gridCol w="695520"/>
                <a:gridCol w="695160"/>
                <a:gridCol w="768240"/>
                <a:gridCol w="839880"/>
                <a:gridCol w="841320"/>
                <a:gridCol w="839880"/>
                <a:gridCol w="841320"/>
                <a:gridCol w="839880"/>
              </a:tblGrid>
              <a:tr h="4881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poručeni energetski unos u periodu rasta i razvoj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vorođenča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vojči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čac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arost -godin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-0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-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-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-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-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-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lesna masa (kg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sina (cm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nergija (kcal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38-64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8-84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37-168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33-222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15-276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90-288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30-303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90-380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teini (g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држ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те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70-75%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60-65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ли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утрашњ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истрибу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ђењ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држ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акш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ви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кра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енерално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прем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гова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0-15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на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е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-4%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71640" y="2637000"/>
          <a:ext cx="7993080" cy="418140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591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sečne dnevne potrebe za unosom tečnost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odine staros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l / k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 – 3 mesec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 – 6 mesec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– 12 mesec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 – 4 god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 – 7 god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 – 11 god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– 19 god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&gt; 19 god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нтензив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це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латив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лик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гућно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комерн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вес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јав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збиљ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јчеш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ављ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ац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первитаминоз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комерн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пети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поре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ж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већа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тр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ез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ак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омљиво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г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D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учн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лив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ж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јача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ћ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кре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цификац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к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..)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хте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осфор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а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уб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тракц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агулац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рча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ункц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говарајућ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дражљиво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ра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интез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емоглоб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вн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игмен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ачајн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анспор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ош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е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их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вожђ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 (4-6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ођ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езбед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љ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в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ђем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55640" y="2421000"/>
          <a:ext cx="8244000" cy="4238640"/>
        </p:xfrm>
        <a:graphic>
          <a:graphicData uri="http://schemas.openxmlformats.org/drawingml/2006/table">
            <a:tbl>
              <a:tblPr/>
              <a:tblGrid>
                <a:gridCol w="2394000"/>
                <a:gridCol w="1116000"/>
                <a:gridCol w="655560"/>
                <a:gridCol w="655560"/>
                <a:gridCol w="503280"/>
                <a:gridCol w="503280"/>
                <a:gridCol w="561960"/>
                <a:gridCol w="646200"/>
                <a:gridCol w="561960"/>
                <a:gridCol w="646200"/>
              </a:tblGrid>
              <a:tr h="3373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poručeni unos vitamina u periodu rasta i razvo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vorođenča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vojči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čac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arost (godine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-0.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-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-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-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-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-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i rastvorljivi u mastim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A (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D (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E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K (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i rastvorljivi u vod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C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iamin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 B</a:t>
                      </a:r>
                      <a:r>
                        <a:rPr b="1" lang="en-US" sz="12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iacin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B</a:t>
                      </a:r>
                      <a:r>
                        <a:rPr b="1" lang="en-US" sz="12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(m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lati (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.B</a:t>
                      </a:r>
                      <a:r>
                        <a:rPr b="1" lang="en-US" sz="12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Фактрори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утритивн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утритив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тход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тход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ођај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ви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з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јет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жи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тход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лед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уе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16000" y="2492280"/>
          <a:ext cx="7693200" cy="4224600"/>
        </p:xfrm>
        <a:graphic>
          <a:graphicData uri="http://schemas.openxmlformats.org/drawingml/2006/table">
            <a:tbl>
              <a:tblPr/>
              <a:tblGrid>
                <a:gridCol w="1862280"/>
                <a:gridCol w="798480"/>
                <a:gridCol w="796680"/>
                <a:gridCol w="614520"/>
                <a:gridCol w="612720"/>
                <a:gridCol w="717480"/>
                <a:gridCol w="785880"/>
                <a:gridCol w="717480"/>
                <a:gridCol w="787680"/>
              </a:tblGrid>
              <a:tr h="61164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poručeni  unos minerala u periodu rasta i razvoj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vorođenč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vojč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čac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arost (godin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-0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-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-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-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-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-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alcijum ( mg 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sfor ( mg 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gnezijum (mg 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vožđe (mg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ink (mg 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od (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elen (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 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luor (mg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СПЕЦИФИЧНОСТИ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ПОЈЕДИНИМ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ФАЗАМА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3366"/>
                </a:solidFill>
                <a:latin typeface="Arial"/>
              </a:rPr>
              <a:t>РАЗВОЈА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оворонђенче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сметан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орођенч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ђ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сеч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ес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3.2 kg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в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иво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рз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а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в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орођенч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шк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9 kg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рем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од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орођенча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ође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рми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р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псорбу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те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јед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с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ош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ве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м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гућно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рењ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кроб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мила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з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аре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кроб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чи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вар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поч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кроб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убреж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исте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ункциониш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пак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а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г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в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уб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ављ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четврт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сец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ч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лутеч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л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граниче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ериод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новно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јчин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лек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његов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мена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р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дава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нерал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ова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п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давање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чврс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зрас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4-6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ра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ва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чврс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гућност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лерги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еђе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Чврс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вод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епе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јединач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л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за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ажљивог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аћењ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акци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в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в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чињ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водит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иринач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руг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цереал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мешан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леко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јређ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лергијск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акц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т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омпир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а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с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Чврс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71640" y="2457360"/>
          <a:ext cx="7692840" cy="4332240"/>
        </p:xfrm>
        <a:graphic>
          <a:graphicData uri="http://schemas.openxmlformats.org/drawingml/2006/table">
            <a:tbl>
              <a:tblPr/>
              <a:tblGrid>
                <a:gridCol w="3646440"/>
                <a:gridCol w="1550880"/>
                <a:gridCol w="2495520"/>
              </a:tblGrid>
              <a:tr h="434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ranljiva vrednost majčinog mleka i zamena za majčino mlek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ranljive materij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jčino mlek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Zamena za majčino mlek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standardne formule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ilokalorije / d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3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7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teini ( g / 200kcal 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itamin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 (IU / 120 kcal / kg / dan 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0 - 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 (IU / 120 kcal / kg / dan 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- 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lna kiselina (µg / 120 kcal / kg / dan 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 - 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 (µg / 120 kcal / kg / dan )      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ineral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alcijum ( mg / 100 kcal )  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3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6 - 6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sfor ( mg / 100 kcal )   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9 - 6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atrijum (mEq / 100 kcal 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0 – 1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ете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в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д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иво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ворођенче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пор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тињст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з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тињст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1. – 3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ављ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рактеристич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ли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дужу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рактеристич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ворођенча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де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ута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у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дногодиш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800 kcal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огодиш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200 kcal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значајн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з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ш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ош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ли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смета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виј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6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м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д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лов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ивотињ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кл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о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олош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хо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в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ерализа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љ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рш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говарају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б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ич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ворил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емог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ћа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преми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редшколско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зра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800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о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0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лав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кл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љ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шл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достата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ћ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личит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школско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зра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зи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атент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ериод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те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пор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ш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епе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пре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г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долесцен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е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тишј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ур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”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ај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ерио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војч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пр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ча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адолесцентско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ерио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че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убертет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нал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дију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ерио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ли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а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ени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ш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долесцен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лов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ксуал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рактеристи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ча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војч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ш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рактеристич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опстве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ча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вн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уг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чац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и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жи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з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стиж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стиж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војч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војч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200 kcal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ча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500-3000 kcal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војч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34-46g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ча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34-52g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долесцен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300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ати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ен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долесцен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р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нструал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бит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ут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долесцен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 B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ча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ен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долесцен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циден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галобласт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нем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ло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нструал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л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БАВЕ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СПОРТ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АЕРОБНИМ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ВЕЖБАЊЕ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и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BMR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дат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вљ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рт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ероб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жба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а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еп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ети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пражњав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мере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аб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ети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актив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мер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"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гулацио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ч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ш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вис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актеристи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ал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ј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јућ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вљ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пис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диоваскулар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рт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10-1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ориј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1-1,5 g/k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ориј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љен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а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– 55-6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оријск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чигледно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ј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већањ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енергетског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неопходног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провођењ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физичк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активности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безбеђуј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из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гљених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хидрат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,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ао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и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асти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ротеин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стај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(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готово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)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неизмењен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ротеин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довољ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нов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олошки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оритет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ављањ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врђе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лик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тет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минокисел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лаз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ндард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еђе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аст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0.8-1g/k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.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ни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слил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опход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изањ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љ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ортск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ултат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ај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иж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говарајући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ланс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обичаје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нинг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ет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ц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ег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тр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убрег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градњ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зот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варањ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ре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њен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ч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лиминисањ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краћ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ј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чин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пш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хидрациј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граничав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особност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љњ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ављањ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меће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ијет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оки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битк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краћ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ан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дицинск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бле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шћењ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арат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стостеро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наболиц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вањ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наг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потреб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вих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леков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ј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трого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брањен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д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тран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вих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едицинских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портских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рганизациј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ој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рате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регуларност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портских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такмичења</a:t>
            </a:r>
            <a:r>
              <a:rPr b="0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аболиц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ет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фект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дрављ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овек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н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шк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штећењ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ључујућ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нак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лигн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умор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потреб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аболик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азив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збиљ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докрин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продуктивн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ифестуј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останак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нструаци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ав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кундарн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лн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актеристик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же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љавост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руб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ж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убок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с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н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н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ерматозоид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дукци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доген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стостеро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ац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ес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шк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ск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ерилитет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фетус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утритив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ету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ету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ету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предов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лацент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утритив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ал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цен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цен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а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дулаци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нсфе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кт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ету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пстве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дука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одина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ладал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греш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вере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м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деал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трист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вег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ог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теин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"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деалан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ро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кмиче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и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стављен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едећ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иступ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поручива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пу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кључив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кстрем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л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вак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ил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а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пас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дрављ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могућавал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виј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етан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рц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рч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готов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инолинск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иселин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птимал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кл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виј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нов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це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енцијал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смета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виј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ражен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готрај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птерећењ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а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ж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4-5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нос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ош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сположив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в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3-4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ће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нтензите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50%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става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чи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биј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цетосирћет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м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нов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акто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гулиш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лекци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ишћ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жи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аја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лаз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RDA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андард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еђе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зраст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7" name="Picture 4" descr="84-4"/>
          <p:cNvPicPr/>
          <p:nvPr/>
        </p:nvPicPr>
        <p:blipFill>
          <a:blip r:embed="rId1"/>
          <a:stretch/>
        </p:blipFill>
        <p:spPr>
          <a:xfrm>
            <a:off x="2411280" y="2637000"/>
            <a:ext cx="5040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000" y="227664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гљен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идрат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нов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довољава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ут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д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ључ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акто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гороч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еђу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држљивост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сок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држаје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востру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држљив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еђењ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ча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!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остру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држљив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зултат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иж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адиционал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сок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држаје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врђе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р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држљив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ирект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вис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држа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кладиштен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аци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востру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з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сок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држаје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40g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/kg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аци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ормал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20g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/kg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нов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циљ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жел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ић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епонован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тр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иж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аралелн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ровођење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еђен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ж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нов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уд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оже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ећер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кроб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могућава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иближ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алн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аци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сок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држаје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и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псорбу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г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ржава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јбољ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дуслов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кмиче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ећер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а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псорбу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рз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аци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кмиче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ист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лаз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5000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ори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ећер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истити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кмиче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ча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држљив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готрај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гат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љени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драти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роше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вн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шћ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нов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лек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ж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г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обичајеној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пак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ћност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брзан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пуњавањ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ез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зир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ет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ас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граниче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пацитети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зимск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нтез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ликом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ровођењ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ијететских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окаол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атећ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комер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купљањ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опходн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пун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аћ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48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ланирању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нажног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клус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посредн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прем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мичење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нема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великог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физичког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оптерећања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два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дана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такмичења</a:t>
            </a:r>
            <a:r>
              <a:rPr b="0" i="1" lang="sl-SI" sz="1600" spc="-1" strike="noStrike">
                <a:solidFill>
                  <a:srgbClr val="003366"/>
                </a:solidFill>
                <a:latin typeface="Arial"/>
              </a:rPr>
              <a:t>!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00000" y="2421000"/>
          <a:ext cx="7920000" cy="4338720"/>
        </p:xfrm>
        <a:graphic>
          <a:graphicData uri="http://schemas.openxmlformats.org/drawingml/2006/table">
            <a:tbl>
              <a:tblPr/>
              <a:tblGrid>
                <a:gridCol w="590760"/>
                <a:gridCol w="3132000"/>
                <a:gridCol w="4197240"/>
              </a:tblGrid>
              <a:tr h="703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difikovani program za povećanje zaliha glikogena kod sportista u pripremnom periodu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ren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shran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 minuta vežbanja pri VO</a:t>
                      </a:r>
                      <a:r>
                        <a:rPr b="1" lang="en-US" sz="14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x od 70%-75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šovita ishrana, 50% ugljenih hidrata (350 g/dan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-3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ostepeno povećavanje trajanja i intenziteta vežbanj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sto kao i prvog dan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-5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ovećavanje trajanja vežbanja uz isti intenzit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šovita ishrana, 70% ugljenih hidrata (550 g/dan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otpuni odmo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sto kao četvrtog i petog dan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akmičarski da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shrana sa visokim sadržajem ugljenih hidrata na dan takmičenj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ј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езбеђуј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нев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00g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гљени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хидрат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езбеђ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000 kcal 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0 %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љ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др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628 g), 14 %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39 g)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6 %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18 g).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љени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драти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еланчевине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сти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60/15/25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бар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ланира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ета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ртск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463"/>
          <p:cNvGraphicFramePr/>
          <p:nvPr/>
        </p:nvGraphicFramePr>
        <p:xfrm>
          <a:off x="1332000" y="1619280"/>
          <a:ext cx="6719760" cy="52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4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19280"/>
                    <a:ext cx="67197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156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тицај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брзину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бнове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мишићних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ужег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5" descr="84-3"/>
          <p:cNvPicPr/>
          <p:nvPr/>
        </p:nvPicPr>
        <p:blipFill>
          <a:blip r:embed="rId1"/>
          <a:stretch/>
        </p:blipFill>
        <p:spPr>
          <a:xfrm>
            <a:off x="2124000" y="2924280"/>
            <a:ext cx="525636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000" y="227664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шк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плој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лажној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мосфер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уби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ној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2.5-5 kg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ат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3%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ноје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начајн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мањ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ефикасност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5-10%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пасн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пшт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дрављ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човек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рче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враћа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вес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ехидрациј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пособност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већан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да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ишак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плот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шк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спарава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ноје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ћ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егрејавањ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мператур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ст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41-42ºC)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плот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дар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шки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штећењим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ЦНС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ожда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ћели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сетљив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исок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мператур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казуј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нак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плот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дар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учни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враћа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алаксалост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лавобољ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ријентаци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лапс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вес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хитн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иступи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схлађивањ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л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ачува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живот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пречил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рај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штећењ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ЦНС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нос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одуже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шк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билни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нојење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готов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еповољни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ружењ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плот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лаг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ецизн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дређу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ерење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мањењ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стих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арактеристик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бављ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ехидрациј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акмичењ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рш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илогра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згубљен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докнађу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200-250 ml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i="1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1:4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1:5).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бр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нтролисан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м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епустит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убјективно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сећају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жеђ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чест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асн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тварним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требем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чност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искоконцентрован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створ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6%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нос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схлађе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4ºC)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ој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емператури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јбрж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есорбује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игестивног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ракта</a:t>
            </a: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јектив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цени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опходност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ишће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правда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и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NaCl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м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готрај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сок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нтензите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готов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пл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лажн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днос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оје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докна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уд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лад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иск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ациј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ровод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абије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нтензите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раће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аја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оје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ањ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докна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губље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лектроли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ављ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њихов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сорпциј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едеће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новље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уготрај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ежа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ровод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повољни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ве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лик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убитк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докнади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ханиза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н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убитк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шићн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ормонс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ирод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ормон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лдостерон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аци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јача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његов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сорпциј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краћ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о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лучива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крециј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краћ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ој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ију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зумирање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огат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алијумом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ћ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оћ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оков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гулар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тал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нцентрација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птимал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андардим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из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бр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ск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зулт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"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дер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потреб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ултивитаминск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ултиминералск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епар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ош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век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начај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каз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њихо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име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готов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ам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акмиче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стизање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ћ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портск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остигнућ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бележен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ног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лучајев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токсичних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ефекат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гадоз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њихов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стручн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планског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ишћења</a:t>
            </a:r>
            <a:r>
              <a:rPr b="0" lang="sl-SI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17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и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ету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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едњу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ради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речил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оше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имал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6 kcal/k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ће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имест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4. – 9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дат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00 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200-2500 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10-1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ака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довољ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зи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уп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лти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нек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стиж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000 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епоруче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60 g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10-15 g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жен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уд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бр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већа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ег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ђ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д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довољењ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ницијал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већан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ан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довољил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стал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брзог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фетуса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већањ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териц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леч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жлез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лаценте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преми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фету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40-50%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формирањ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амнионск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формирањ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удноћ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не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едвиђеног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рм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бав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рођај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поч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лактаци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јењ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држ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мплет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ир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с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в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безбеђуј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руг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утритиент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итами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груп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B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дат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безбеди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врћ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хунаст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житариц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рукту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мбр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хте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орају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зи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дат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рог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дивидуал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ровође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дзор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ручња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ље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плементациј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шта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ар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лакш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зи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изи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жеље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сић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лестеро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полагањ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љ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лигоелемена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еб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д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ћи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7 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нека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га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дат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ара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племента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за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30-60 mg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тход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лич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ипо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нем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арат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и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00 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шћ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ар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авља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ека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дов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ематолош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нализ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аћ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емоглоб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изи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нем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емодилу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пре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50%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езбеђив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љ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т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с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еле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т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ету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ођ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готов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племента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жељ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и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пу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астроин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инал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б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у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 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пци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и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очи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н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петин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нспорт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ст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вожђ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узниц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ре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прот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ниј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љењ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000 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дна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обичаје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б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9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5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ло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шта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агула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ак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ој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унк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ј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ре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га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леч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изво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еле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исна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35:39Z</dcterms:created>
  <dc:creator>User</dc:creator>
  <dc:description/>
  <dc:language>en-US</dc:language>
  <cp:lastModifiedBy>XP</cp:lastModifiedBy>
  <dcterms:modified xsi:type="dcterms:W3CDTF">2014-02-07T15:53:41Z</dcterms:modified>
  <cp:revision>10</cp:revision>
  <dc:subject/>
  <dc:title>CLINICAL NUTRITION</dc:title>
</cp:coreProperties>
</file>