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A49-472D-4693-949F-F24DABE9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4A1-6745-4A7D-B820-3F449D46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2E3-0548-4214-A437-BB261565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CAD-63E9-4F9B-9BF4-FFAA74C8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755-8A23-464F-AAC9-B3410F4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6AB-892C-4FCE-9DB6-ADDFA7EA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BA4-555E-4031-B9FA-20FFFAFA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C5C-82D4-4D71-94F9-3954D2C9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80F-8073-4338-9BA9-AA4C5238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36B-2616-4E6E-87F1-388AD1B3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7A6-FC06-4A5B-9099-2A6C3FFF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5EC-56BD-4974-9037-0AC2468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BC1A-DD63-4A97-A2C5-E0F335865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НДИВИДУАЛНО САСТАВЉАЊЕ ХРАНЉИВОГ ДНЕВНОГ ОБРОКА</a:t>
            </a:r>
            <a:br>
              <a:rPr sz="4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ПРАКТИЧНИ РА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E:\Nena\Doktorske\MFgrb.gif"/>
          <p:cNvPicPr/>
          <p:nvPr/>
        </p:nvPicPr>
        <p:blipFill>
          <a:blip r:embed="rId1"/>
          <a:stretch/>
        </p:blipFill>
        <p:spPr>
          <a:xfrm>
            <a:off x="8088480" y="0"/>
            <a:ext cx="105552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52280" y="1522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акултет 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едицинск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у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у Крагује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не струковне студ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ИЈЕТ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51640" y="57340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ТЕДРА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ФИЗИОЛОГИЈУ И ДИЈЕТЕТИ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3733920" cy="281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9:24:38Z</dcterms:created>
  <dc:creator>XP</dc:creator>
  <dc:description/>
  <dc:language>en-US</dc:language>
  <cp:lastModifiedBy>XP</cp:lastModifiedBy>
  <dcterms:modified xsi:type="dcterms:W3CDTF">2014-02-07T09:08:01Z</dcterms:modified>
  <cp:revision>4</cp:revision>
  <dc:subject/>
  <dc:title>ИНДИВИДУАЛНО ОДРЕЂИВАЊЕ ДНЕВНИХ ЕНЕРГЕТСКИХ ПОТРЕБА -ПРАКТИЧНИ РАД-</dc:title>
</cp:coreProperties>
</file>